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B30-5197-499B-AFF3-E0218F1A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2E3-3920-4746-86AE-EE29227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FC8-8079-4710-9381-E32D84B0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CBE-2A54-484D-8F96-A7CEE9DB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1A54-557D-43EC-991E-97926BE6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31FF-CE46-40E4-9D66-E4202A7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DC54-9D9C-4982-BBBD-70820D7A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055B-57BD-4FBC-8DC7-B5714226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80EC-2DBB-4341-861C-78D2116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7843-82E2-419E-9C5C-B6C50694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49E-0F21-46F5-BA14-54D1D01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CA3-6833-45D7-9B14-62D6381A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170D-EB12-4A87-AFA2-CA74C82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E5B2-696C-4386-9DEB-91A43696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FBBD-C973-4685-AFB0-864E3509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8544-26EF-4905-85B0-AC9534DA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1D8E-6F9B-48D8-9FA5-BE506556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7B1B5-CD4A-4B8C-A6EE-905BA567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48CB6-5221-4D5B-844F-7424C750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33B23-EEB9-4944-A120-230F2BB6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AAD73-DED5-4431-A13D-366AE08C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9251E-5C8D-4311-8FCB-08621392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6CC-749B-42D8-A52F-1B79CB6B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FD532-1094-49DA-A2B7-FA75F5F5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287A2-B56F-44DE-A6A2-D011E8C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DB241-873C-414A-8E12-AA118930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8AB7C-1BC6-4F89-A6CA-CDD03F2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8DE2D-659B-4DC4-8870-55E8165A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5FA03-4C79-456E-8BB0-99F7917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E3E8D-9E5D-4656-9A8A-2F5DC1AE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5814D-9F67-4CC0-AC70-4B39B5D1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2AABF-DD57-4BCF-BCE7-01E0688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5EEB0-8FF4-437B-B263-5EE41462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85A-CA86-40E8-9EF4-B5A961D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66F09-010D-43FB-8AFF-D03DBD3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D05F7-4B0F-449D-9A69-6C92E77B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E86F0-CCB3-4EEF-9377-56E219A2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CA20B-6E34-492B-BABB-CD754EEB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EB0F0-44B9-47DF-A139-C03946E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A48AB-737D-4F93-A369-3FDF6B2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90512-AD34-4F27-A32B-3B243A3D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3116E-756E-483F-94D5-B855422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6B5C4-6EF1-4BEF-8138-FE3D7087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6C6DC-795F-4A8C-B79D-6EDF50B7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FD9-C61A-441C-B019-BBBD8D89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0C423-C4E4-438B-BFB0-77C12F41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886D5-2F35-4CC5-8332-7608B96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FEB04-F1D8-42EE-A8D9-3DAD278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95BB6-ECC0-4A9F-8ACA-8E64D78C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DEC74-AAC4-46C5-9E49-95ACF3A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C4EB7-B697-4FC3-B7A2-A3BA791B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2435A-5B13-40FD-B188-816DCE3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4A423-921E-493F-BDA0-63D1F94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BAF73-F226-4D68-82E3-BC7ACAB2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FACDC-FFBB-4B20-83A3-0287DA3D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713-7875-48D1-8BA7-16D409BE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5296C-32B6-47FD-8B4B-11AC915E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447BB-54AC-4D67-9751-0CEC0084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EFC0-B0B8-4780-9D4E-31B2100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9E88-4EA1-41B1-9F76-5FCF6BB5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05ECF-6F9A-403C-886B-8A414CE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92CC-6B75-495D-AAE5-2605461C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5B03-20FD-4495-94C5-CC71FD5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90B5-374B-42AE-BA42-C81687F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2D72-0E07-4BAD-9A4D-56E2940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00E4-2140-4A71-A297-FD525B7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36E-5EBD-4B27-8723-A59BD4C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C904F-4941-496C-A414-81684A9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EEE5-2EE4-414F-B249-AF3805DC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12A48-44F3-4F97-8700-976048FD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5D57C-FCE0-4996-A028-FB08807E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81F03-C9BC-45A5-B36B-1D4A87A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1A031-A23E-44D7-A569-ECD7C90A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5A0D9-7C55-46F7-B0AC-098D134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C03A9-3A0F-4EF0-8892-904E93A4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3F5E8-AF0D-4EF8-9723-9B5745E1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935C6-CAE2-4DE8-9337-4A15AAB1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750-BE42-46FB-B946-8A76B02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5C1F3-6CE9-4716-84FC-4AA5C93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8F229-3DEE-41B6-A2D4-17BA1C1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BD000-8DCA-4B7B-B796-CC5C20A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A6AB9-6183-465D-8B56-61C8FAF4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78A20-46B0-4499-8898-F436A5C4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67997-8562-46BF-85EB-D094E478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4E0E2-3C1C-4245-AB22-D9A8A625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62146-FDD3-46D6-A29E-6E2A98C0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515E8-F787-4B38-BAC0-22B08C40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680FE-B6FD-4D16-9C71-CCBBED6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422-3519-4579-9F04-B0FA349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E4A4F-5C4D-45A2-A614-3219471D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75AE4-0FDD-45C5-B6DC-86831BC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A2F27-455B-4B4E-B94A-61B6D37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13672-DE90-4E68-875B-BA1C986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F9AF9-4DF9-44C4-9340-45B32E06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FA8D-51F5-46CB-8EF8-ABEF2448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623B-2451-4D9F-B374-817CAAF7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6802-9860-4A1C-8D96-38D592154071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45B7-F464-40A8-A01D-1EFDB862B079}" type="slidenum">
              <a:rPr b="1" lang="en-N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5FB9-028D-4894-8656-32C29BFF57BF}" type="slidenum">
              <a:rPr b="1" lang="en-N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C9B-1336-4146-9DDC-7E1E9390FE46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D5D-F59B-40E9-9900-5CD210EBB497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CFB0-AAAE-4362-BF9A-781F5DF9A56B}" type="slidenum">
              <a:rPr b="1" lang="en-N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E9ED-0E17-4A50-A827-20668E738540}" type="slidenum">
              <a:rPr b="1" lang="en-N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2AE6-1217-407E-99D0-A71EE8B9B347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ohndclare.net/cold_war3_ideologicaldifferences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0826/yalta.htm" TargetMode="External"/><Relationship Id="rId2" Type="http://schemas.openxmlformats.org/officeDocument/2006/relationships/hyperlink" Target="http://library.thinkquest.org/10826/greek.htm" TargetMode="External"/><Relationship Id="rId3" Type="http://schemas.openxmlformats.org/officeDocument/2006/relationships/hyperlink" Target="http://library.thinkquest.org/10826/berlin.htm" TargetMode="External"/><Relationship Id="rId4" Type="http://schemas.openxmlformats.org/officeDocument/2006/relationships/hyperlink" Target="http://library.thinkquest.org/10826/nato.htm" TargetMode="External"/><Relationship Id="rId5" Type="http://schemas.openxmlformats.org/officeDocument/2006/relationships/hyperlink" Target="http://library.thinkquest.org/10826/berlin.htm" TargetMode="External"/><Relationship Id="rId6" Type="http://schemas.openxmlformats.org/officeDocument/2006/relationships/hyperlink" Target="http://library.thinkquest.org/10826/korea.htm" TargetMode="External"/><Relationship Id="rId7" Type="http://schemas.openxmlformats.org/officeDocument/2006/relationships/hyperlink" Target="http://library.thinkquest.org/10826/rosenber.htm" TargetMode="External"/><Relationship Id="rId8" Type="http://schemas.openxmlformats.org/officeDocument/2006/relationships/hyperlink" Target="http://library.thinkquest.org/10826/korea.htm" TargetMode="External"/><Relationship Id="rId9" Type="http://schemas.openxmlformats.org/officeDocument/2006/relationships/hyperlink" Target="http://library.thinkquest.org/10826/vietnam.htm" TargetMode="External"/><Relationship Id="rId10" Type="http://schemas.openxmlformats.org/officeDocument/2006/relationships/hyperlink" Target="http://library.thinkquest.org/10826/berlin.htm" TargetMode="External"/><Relationship Id="rId11" Type="http://schemas.openxmlformats.org/officeDocument/2006/relationships/hyperlink" Target="http://www.snopes.com/disney/nikita.htm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0826/pigbay.htm" TargetMode="External"/><Relationship Id="rId2" Type="http://schemas.openxmlformats.org/officeDocument/2006/relationships/hyperlink" Target="http://library.thinkquest.org/10826/berlin.htm" TargetMode="External"/><Relationship Id="rId3" Type="http://schemas.openxmlformats.org/officeDocument/2006/relationships/hyperlink" Target="http://library.thinkquest.org/10826/berlin.htm" TargetMode="External"/><Relationship Id="rId4" Type="http://schemas.openxmlformats.org/officeDocument/2006/relationships/hyperlink" Target="http://library.thinkquest.org/10826/vietnam.htm" TargetMode="External"/><Relationship Id="rId5" Type="http://schemas.openxmlformats.org/officeDocument/2006/relationships/hyperlink" Target="http://library.thinkquest.org/10826/cuba.htm" TargetMode="External"/><Relationship Id="rId6" Type="http://schemas.openxmlformats.org/officeDocument/2006/relationships/hyperlink" Target="http://library.thinkquest.org/10826/vietnam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bddc3"/>
                </a:solidFill>
                <a:latin typeface="Tw Cen MT"/>
              </a:rPr>
              <a:t>THE COLD WAR REVI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Tw Cen MT"/>
              </a:rPr>
              <a:t>IGCSE HISTOR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744000" y="-1897920"/>
            <a:ext cx="16560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ld W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945-1960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7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3" name="Group 1"/>
          <p:cNvGrpSpPr/>
          <p:nvPr/>
        </p:nvGrpSpPr>
        <p:grpSpPr>
          <a:xfrm>
            <a:off x="285840" y="428760"/>
            <a:ext cx="8571960" cy="3604680"/>
            <a:chOff x="285840" y="428760"/>
            <a:chExt cx="8571960" cy="3604680"/>
          </a:xfrm>
        </p:grpSpPr>
        <p:pic>
          <p:nvPicPr>
            <p:cNvPr id="354" name="Picture 3" descr="http://users.erols.com/mwhite28/images/coldwar2.gif"/>
            <p:cNvPicPr/>
            <p:nvPr/>
          </p:nvPicPr>
          <p:blipFill>
            <a:blip r:embed="rId1"/>
            <a:stretch/>
          </p:blipFill>
          <p:spPr>
            <a:xfrm>
              <a:off x="285840" y="428760"/>
              <a:ext cx="8571960" cy="36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Oval 4"/>
            <p:cNvSpPr/>
            <p:nvPr/>
          </p:nvSpPr>
          <p:spPr>
            <a:xfrm>
              <a:off x="7695720" y="3191040"/>
              <a:ext cx="285480" cy="243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356" name="Picture 5" descr="http://users.erols.com/mwhite28/images/coldwar3.gif"/>
          <p:cNvPicPr/>
          <p:nvPr/>
        </p:nvPicPr>
        <p:blipFill>
          <a:blip r:embed="rId2"/>
          <a:stretch/>
        </p:blipFill>
        <p:spPr>
          <a:xfrm>
            <a:off x="2571840" y="4286160"/>
            <a:ext cx="4500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75f55"/>
                </a:solidFill>
                <a:latin typeface="Tw Cen MT"/>
              </a:rPr>
              <a:t>Cold War the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Ask yourself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What is meant by ‘cold war’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Why did the Cold War beg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Who was to blame and why? Specif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Did the world really come close to nuclear disaste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75f55"/>
                </a:solidFill>
                <a:latin typeface="Tw Cen MT"/>
              </a:rPr>
              <a:t>Ideological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2928960"/>
            <a:ext cx="8153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johndclare.net/cold_war3_ideologicaldifferences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775f55"/>
                </a:solidFill>
                <a:latin typeface="Tw Cen MT"/>
              </a:rPr>
              <a:t>TIMELIN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0040" y="713880"/>
            <a:ext cx="84297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February 4-11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Yalta Conference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Cold War Begin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August 6 -- United States first used atomic bomb in wa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August 8 -- Russia enters war against Japan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August 14 -- Japanese surrender End of World War I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6: March -- Winston Churchill delivers "Iron Curtain" Speec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7: March -- Truman declares active role in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Greek Civil Wa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7: June -- Marshall Plan is announce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8: February -- Communist takeover in Czechoslovaki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8: June 24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Berlin Blockade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begin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July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NATO ratifie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May 12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Berlin Blockade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end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September -- Mao Zedong, a Communist, takes control of Chin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September -- Soviets explode first atomic bomb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0: February -- Joe McCarthy begins Communist witch hunt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0: June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Korean War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begins1953: June 19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7"/>
              </a:rPr>
              <a:t>Rosenberg execution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3: July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8"/>
              </a:rPr>
              <a:t>Korean War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end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4: July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9"/>
              </a:rPr>
              <a:t>Vietnam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split at 17th parallel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5: May -- Warsaw Pact forme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6: October - November -- Rebellion put down in Communist Hungary. Egypt took control of Suez Canal; U.S. refused to help take it back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8: November -- Khrushchev demands withdrawal of troops from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10"/>
              </a:rPr>
              <a:t>Berlin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9: January -- Cuba taken over by Fidel Castro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9: September -- Khrushchev visits United States; denied access to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11"/>
              </a:rPr>
              <a:t>Disneylan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004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0: May -- Soviet Union reveals that U.S. spy plane was shot down over Soviet territ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0: November -- John F. Kennedy elected Presid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April --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Bay of Pigs inva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July -- Kennedy requests 25% spending increase for milit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August 13 --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Berlin border clos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August 17 -- Construction of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Berlin Wall</a:t>
            </a: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 beg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2: -- U.S. involvement in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Vietnam increas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2: October --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Cuban Missile Cri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3: July -- Nuclear Test Ban Treaty ratifi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3: November -- President Kennedy assassinated in Dallas, Tex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4: August -- Gulf of Tonkin incid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5: July -- Announcement of dispatching of 150,000 U.S. troops to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Vietn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8: August -- Soviet troops crush Czechoslovakian revol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643040"/>
            <a:ext cx="850104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73: January -- Cease fire in Vietnam between North Vietnam and United Stat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75: April 17 -- North Vietnam defeats South Vietna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5: -- Mikhail Gorbachev ascends to power in Soviet Un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6: -- Gorbachev ends economic aid to Soviet satellit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6: October -- Reagan and Gorbachev resolve to remove all intermediate nuclear missiles from Europ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7: October -- Reagan and Gorbachev agree to remove all medium and short-range nuclear missiles by signing treat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June -- China puts down protests for democracy; Poland becomes independen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September -- Hungary becomes independen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November -- Berlin Wall fall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December -- Communist governments fall in Czechoslovakia, Bulgaria, and Rumania; Soviet empire end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90: October 3 -- Germany reunited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91: April -- Warsaw Pact end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91: August -- End of Soviet Union </a:t>
            </a:r>
            <a:r>
              <a:rPr b="1" lang="en-NZ" sz="1600" spc="-1" strike="noStrike">
                <a:solidFill>
                  <a:srgbClr val="ff0000"/>
                </a:solidFill>
                <a:latin typeface="Tw Cen MT"/>
              </a:rPr>
              <a:t>Cold War End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75f55"/>
                </a:solidFill>
                <a:latin typeface="Tw Cen MT"/>
              </a:rPr>
              <a:t>The Early Years of the Cold W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3214440"/>
            <a:ext cx="81532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w Cen MT"/>
              </a:rPr>
              <a:t>http://www.schoolhistory.co.uk/lessons/superpower/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3928680"/>
            <a:ext cx="8153280" cy="21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http://www.johndclare.net/FactualRevise_5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2786040"/>
            <a:ext cx="815328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Examples of Paper 1 Questions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12:22Z</dcterms:created>
  <dc:creator>Rachel</dc:creator>
  <dc:description/>
  <dc:language>en-US</dc:language>
  <cp:lastModifiedBy>redwards</cp:lastModifiedBy>
  <dcterms:modified xsi:type="dcterms:W3CDTF">2008-04-25T05:21:04Z</dcterms:modified>
  <cp:revision>6</cp:revision>
  <dc:subject/>
  <dc:title>THE COLD WAR REVISION</dc:title>
</cp:coreProperties>
</file>